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C477-D886-410F-97F2-6E0A493E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127-0FD2-4AA9-9EAA-99AFAA24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3C0-D4AE-419E-966B-DA558D28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E6C-2604-4A0A-A1F2-4AA255B7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AB0-EBDD-4495-9B55-6CE48032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C61E-2860-42DC-AC85-A178BE32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F1A9-D508-440D-BFEB-2E705128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A9B-8590-4CEB-90E8-8E1DE4DE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CF1-4D45-41B9-8AF8-72EAA8B6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90F-C7A3-452D-A095-F4B9DD5C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ADB-642A-4373-A9C9-48DD599F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78D9-C4AB-4B3A-8032-6CDA7913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E288-AF44-4D59-8611-C8D16B034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rating Biophysical and Socioeconomic Model Outpu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. Randall Ritz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W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934320" y="5554800"/>
            <a:ext cx="1716120" cy="674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533520" y="5423040"/>
            <a:ext cx="125712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al of Nile Basin Development Challenge Project 4 (N4) is to assess potential impacts- both biophysical and socioeconomic- at the basin scale resulting from implementation of Rainwater Management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ssess impacts, need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in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iophysical and socioeconomic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ing has proceeded along disciplinary lines, and at differing sca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ydrologic:  SWAT, AP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ter resource management:  WE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omic: ECOSA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p:  CropWat, AquaCr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vestock:  ILRI livestock water productivity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presentation: initial ideas on model inte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Basin-level BP/SE integration framewor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624480" cy="3047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3581280" cy="3011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533520" y="1295280"/>
            <a:ext cx="3581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Sectoral Link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4605480" y="12952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xplicit Integ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1600200" y="518796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in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trapol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P and SE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2039760" y="5965920"/>
            <a:ext cx="535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ource Management Typ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12"/>
          <p:cNvCxnSpPr/>
          <p:nvPr/>
        </p:nvCxnSpPr>
        <p:spPr>
          <a:xfrm>
            <a:off x="4419360" y="5638320"/>
            <a:ext cx="1080" cy="38196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Resource Management Typolo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neate population segment which manages BP resources in target catch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tion population segment into RM un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mption: Economic decisions made at H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velihood Profiles suggest different HH production systems w/i Livelihood Z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H’s can therefore be aggregated into RMUs based on BP and SE attribute similar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mption:  Access/benefit/cost is equitably distributed within R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/Land “management” mapping- establish BP resource flows from/to RM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990720" y="388800"/>
            <a:ext cx="9144000" cy="6080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52640" y="15192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Resource Management Typ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676520"/>
            <a:ext cx="2666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WSNET/LIU Livelihood Zones/Profiles: natural RMU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hiopian Rural Economic Atlas: population/HH distrib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ll spatial / economic coverage: satisfies need for extrapo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Sectoral Linkage Approach: BP-initia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ounded Rectangle 13"/>
          <p:cNvSpPr/>
          <p:nvPr/>
        </p:nvSpPr>
        <p:spPr>
          <a:xfrm>
            <a:off x="685800" y="2357280"/>
            <a:ext cx="1246320" cy="605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3 Feasibility Map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14"/>
          <p:cNvCxnSpPr>
            <a:stCxn id="61" idx="3"/>
            <a:endCxn id="63" idx="1"/>
          </p:cNvCxnSpPr>
          <p:nvPr/>
        </p:nvCxnSpPr>
        <p:spPr>
          <a:xfrm>
            <a:off x="1931760" y="2660760"/>
            <a:ext cx="132300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64" name="Rectangle 15"/>
          <p:cNvSpPr/>
          <p:nvPr/>
        </p:nvSpPr>
        <p:spPr>
          <a:xfrm>
            <a:off x="3024360" y="1819440"/>
            <a:ext cx="3276360" cy="312408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P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254400" y="2357280"/>
            <a:ext cx="762120" cy="60984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5010120" y="2432160"/>
            <a:ext cx="952560" cy="53496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C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5113440" y="4184640"/>
            <a:ext cx="761760" cy="53496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19"/>
          <p:cNvSpPr/>
          <p:nvPr/>
        </p:nvSpPr>
        <p:spPr>
          <a:xfrm>
            <a:off x="3938760" y="3459240"/>
            <a:ext cx="93816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Flows (unimpaired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Straight Arrow Connector 20"/>
          <p:cNvCxnSpPr>
            <a:stCxn id="63" idx="2"/>
            <a:endCxn id="67" idx="0"/>
          </p:cNvCxnSpPr>
          <p:nvPr/>
        </p:nvCxnSpPr>
        <p:spPr>
          <a:xfrm>
            <a:off x="3634920" y="2966760"/>
            <a:ext cx="772200" cy="49284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sp>
        <p:nvSpPr>
          <p:cNvPr id="69" name="Rounded Rectangle 21"/>
          <p:cNvSpPr/>
          <p:nvPr/>
        </p:nvSpPr>
        <p:spPr>
          <a:xfrm>
            <a:off x="3252960" y="5324400"/>
            <a:ext cx="763560" cy="3812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Sedi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Straight Arrow Connector 22"/>
          <p:cNvCxnSpPr>
            <a:stCxn id="63" idx="2"/>
            <a:endCxn id="69" idx="0"/>
          </p:cNvCxnSpPr>
          <p:nvPr/>
        </p:nvCxnSpPr>
        <p:spPr>
          <a:xfrm flipH="1">
            <a:off x="3633480" y="2967120"/>
            <a:ext cx="2160" cy="2358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cxnSp>
        <p:nvCxnSpPr>
          <p:cNvPr id="71" name="Straight Arrow Connector 23"/>
          <p:cNvCxnSpPr>
            <a:stCxn id="67" idx="2"/>
            <a:endCxn id="66" idx="1"/>
          </p:cNvCxnSpPr>
          <p:nvPr/>
        </p:nvCxnSpPr>
        <p:spPr>
          <a:xfrm>
            <a:off x="4406400" y="3840120"/>
            <a:ext cx="707400" cy="613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72" name="Rounded Rectangle 27"/>
          <p:cNvSpPr/>
          <p:nvPr/>
        </p:nvSpPr>
        <p:spPr>
          <a:xfrm>
            <a:off x="5113440" y="5334120"/>
            <a:ext cx="76356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Flows (impaired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traight Arrow Connector 28"/>
          <p:cNvCxnSpPr>
            <a:stCxn id="66" idx="2"/>
            <a:endCxn id="72" idx="0"/>
          </p:cNvCxnSpPr>
          <p:nvPr/>
        </p:nvCxnSpPr>
        <p:spPr>
          <a:xfrm>
            <a:off x="5493960" y="4719240"/>
            <a:ext cx="1080" cy="615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74" name="Rectangle 30"/>
          <p:cNvSpPr/>
          <p:nvPr/>
        </p:nvSpPr>
        <p:spPr>
          <a:xfrm>
            <a:off x="6870600" y="3038400"/>
            <a:ext cx="990720" cy="68580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DM via RM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 ECOSAU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31"/>
          <p:cNvCxnSpPr>
            <a:stCxn id="64" idx="3"/>
            <a:endCxn id="74" idx="1"/>
          </p:cNvCxnSpPr>
          <p:nvPr/>
        </p:nvCxnSpPr>
        <p:spPr>
          <a:xfrm>
            <a:off x="6300360" y="3381120"/>
            <a:ext cx="5706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76" name="Rounded Rectangle 34"/>
          <p:cNvSpPr/>
          <p:nvPr/>
        </p:nvSpPr>
        <p:spPr>
          <a:xfrm>
            <a:off x="6985080" y="5324400"/>
            <a:ext cx="763560" cy="3812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SE Impac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Indicato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Straight Arrow Connector 35"/>
          <p:cNvCxnSpPr>
            <a:stCxn id="74" idx="2"/>
            <a:endCxn id="76" idx="0"/>
          </p:cNvCxnSpPr>
          <p:nvPr/>
        </p:nvCxnSpPr>
        <p:spPr>
          <a:xfrm flipH="1">
            <a:off x="7365240" y="3723840"/>
            <a:ext cx="1080" cy="1600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78" name="Rounded Rectangle 24"/>
          <p:cNvSpPr/>
          <p:nvPr/>
        </p:nvSpPr>
        <p:spPr>
          <a:xfrm>
            <a:off x="380880" y="4029120"/>
            <a:ext cx="2057400" cy="13809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Consider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Potential of fragmented link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Use of MCA to understand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Feedbac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Sectoral Linkage Approach: SE initia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2"/>
          <p:cNvSpPr/>
          <p:nvPr/>
        </p:nvSpPr>
        <p:spPr>
          <a:xfrm>
            <a:off x="1031760" y="1984320"/>
            <a:ext cx="1524240" cy="7621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cted yield &amp; water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con inp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295280" y="3352680"/>
            <a:ext cx="990720" cy="68580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DM: RM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modified ECOSAU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590920" y="3429000"/>
            <a:ext cx="761760" cy="53352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D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419720" y="2133720"/>
            <a:ext cx="3276360" cy="312408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P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649760" y="2670120"/>
            <a:ext cx="762120" cy="61128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ex-verif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6405480" y="2746440"/>
            <a:ext cx="952560" cy="53316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C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6508800" y="4498920"/>
            <a:ext cx="762120" cy="53352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8001000" y="3355920"/>
            <a:ext cx="990720" cy="68580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SM (modified HD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ounded Rectangle 12"/>
          <p:cNvSpPr/>
          <p:nvPr/>
        </p:nvSpPr>
        <p:spPr>
          <a:xfrm>
            <a:off x="5334120" y="3772080"/>
            <a:ext cx="93816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Flows (unimpaired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Straight Arrow Connector 14"/>
          <p:cNvCxnSpPr>
            <a:stCxn id="80" idx="2"/>
            <a:endCxn id="81" idx="0"/>
          </p:cNvCxnSpPr>
          <p:nvPr/>
        </p:nvCxnSpPr>
        <p:spPr>
          <a:xfrm flipH="1">
            <a:off x="1789920" y="2746440"/>
            <a:ext cx="3960" cy="606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cxnSp>
        <p:nvCxnSpPr>
          <p:cNvPr id="90" name="Straight Arrow Connector 15"/>
          <p:cNvCxnSpPr>
            <a:stCxn id="81" idx="3"/>
            <a:endCxn id="82" idx="1"/>
          </p:cNvCxnSpPr>
          <p:nvPr/>
        </p:nvCxnSpPr>
        <p:spPr>
          <a:xfrm>
            <a:off x="2285640" y="3695400"/>
            <a:ext cx="3056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cxnSp>
        <p:nvCxnSpPr>
          <p:cNvPr id="91" name="Straight Arrow Connector 18"/>
          <p:cNvCxnSpPr>
            <a:stCxn id="92" idx="3"/>
            <a:endCxn id="83" idx="1"/>
          </p:cNvCxnSpPr>
          <p:nvPr/>
        </p:nvCxnSpPr>
        <p:spPr>
          <a:xfrm>
            <a:off x="4114440" y="3695400"/>
            <a:ext cx="3056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cxnSp>
        <p:nvCxnSpPr>
          <p:cNvPr id="93" name="Straight Arrow Connector 21"/>
          <p:cNvCxnSpPr>
            <a:stCxn id="83" idx="3"/>
            <a:endCxn id="87" idx="1"/>
          </p:cNvCxnSpPr>
          <p:nvPr/>
        </p:nvCxnSpPr>
        <p:spPr>
          <a:xfrm>
            <a:off x="7695720" y="3695400"/>
            <a:ext cx="305640" cy="3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cxnSp>
        <p:nvCxnSpPr>
          <p:cNvPr id="94" name="Straight Arrow Connector 28"/>
          <p:cNvCxnSpPr>
            <a:stCxn id="84" idx="2"/>
            <a:endCxn id="88" idx="0"/>
          </p:cNvCxnSpPr>
          <p:nvPr/>
        </p:nvCxnSpPr>
        <p:spPr>
          <a:xfrm>
            <a:off x="5030640" y="3281040"/>
            <a:ext cx="772560" cy="49140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sp>
        <p:nvSpPr>
          <p:cNvPr id="95" name="Rounded Rectangle 33"/>
          <p:cNvSpPr/>
          <p:nvPr/>
        </p:nvSpPr>
        <p:spPr>
          <a:xfrm>
            <a:off x="4648320" y="5791320"/>
            <a:ext cx="76356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Sedi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34"/>
          <p:cNvCxnSpPr>
            <a:stCxn id="84" idx="2"/>
            <a:endCxn id="95" idx="0"/>
          </p:cNvCxnSpPr>
          <p:nvPr/>
        </p:nvCxnSpPr>
        <p:spPr>
          <a:xfrm flipH="1">
            <a:off x="5028840" y="3281400"/>
            <a:ext cx="2160" cy="2510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cxnSp>
        <p:nvCxnSpPr>
          <p:cNvPr id="97" name="Straight Arrow Connector 37"/>
          <p:cNvCxnSpPr>
            <a:stCxn id="88" idx="2"/>
            <a:endCxn id="86" idx="1"/>
          </p:cNvCxnSpPr>
          <p:nvPr/>
        </p:nvCxnSpPr>
        <p:spPr>
          <a:xfrm>
            <a:off x="5802480" y="4152960"/>
            <a:ext cx="707040" cy="613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98" name="Rounded Rectangle 40"/>
          <p:cNvSpPr/>
          <p:nvPr/>
        </p:nvSpPr>
        <p:spPr>
          <a:xfrm>
            <a:off x="8115480" y="5791320"/>
            <a:ext cx="76176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SE Impac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Indicato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Straight Arrow Connector 41"/>
          <p:cNvCxnSpPr>
            <a:stCxn id="87" idx="2"/>
            <a:endCxn id="98" idx="0"/>
          </p:cNvCxnSpPr>
          <p:nvPr/>
        </p:nvCxnSpPr>
        <p:spPr>
          <a:xfrm flipH="1">
            <a:off x="8495640" y="4041720"/>
            <a:ext cx="1080" cy="1750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100" name="Rounded Rectangle 44"/>
          <p:cNvSpPr/>
          <p:nvPr/>
        </p:nvSpPr>
        <p:spPr>
          <a:xfrm>
            <a:off x="6502320" y="3772080"/>
            <a:ext cx="76212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Irrigation Deman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Straight Arrow Connector 45"/>
          <p:cNvCxnSpPr>
            <a:stCxn id="85" idx="2"/>
            <a:endCxn id="100" idx="0"/>
          </p:cNvCxnSpPr>
          <p:nvPr/>
        </p:nvCxnSpPr>
        <p:spPr>
          <a:xfrm>
            <a:off x="6881400" y="3279600"/>
            <a:ext cx="2520" cy="49320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102" name="Straight Arrow Connector 48"/>
          <p:cNvCxnSpPr>
            <a:stCxn id="100" idx="2"/>
            <a:endCxn id="86" idx="0"/>
          </p:cNvCxnSpPr>
          <p:nvPr/>
        </p:nvCxnSpPr>
        <p:spPr>
          <a:xfrm>
            <a:off x="6883200" y="4152600"/>
            <a:ext cx="6840" cy="346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103" name="Rounded Rectangle 51"/>
          <p:cNvSpPr/>
          <p:nvPr/>
        </p:nvSpPr>
        <p:spPr>
          <a:xfrm>
            <a:off x="6508800" y="5800680"/>
            <a:ext cx="76356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Flows (impaired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52"/>
          <p:cNvCxnSpPr>
            <a:stCxn id="86" idx="2"/>
            <a:endCxn id="103" idx="0"/>
          </p:cNvCxnSpPr>
          <p:nvPr/>
        </p:nvCxnSpPr>
        <p:spPr>
          <a:xfrm>
            <a:off x="6889320" y="5032440"/>
            <a:ext cx="2520" cy="768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105" name="Rounded Rectangle 55"/>
          <p:cNvSpPr/>
          <p:nvPr/>
        </p:nvSpPr>
        <p:spPr>
          <a:xfrm>
            <a:off x="1219320" y="4575240"/>
            <a:ext cx="114300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Carry-over water availabilit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6"/>
          <p:cNvCxnSpPr>
            <a:stCxn id="86" idx="1"/>
            <a:endCxn id="105" idx="3"/>
          </p:cNvCxnSpPr>
          <p:nvPr/>
        </p:nvCxnSpPr>
        <p:spPr>
          <a:xfrm flipH="1">
            <a:off x="2361960" y="4765320"/>
            <a:ext cx="4147200" cy="1080"/>
          </a:xfrm>
          <a:prstGeom prst="straightConnector1">
            <a:avLst/>
          </a:prstGeom>
          <a:ln w="25560">
            <a:solidFill>
              <a:srgbClr val="ff0000"/>
            </a:solidFill>
            <a:prstDash val="dash"/>
            <a:miter/>
          </a:ln>
        </p:spPr>
      </p:cxnSp>
      <p:cxnSp>
        <p:nvCxnSpPr>
          <p:cNvPr id="107" name="Straight Arrow Connector 59"/>
          <p:cNvCxnSpPr>
            <a:stCxn id="105" idx="0"/>
            <a:endCxn id="81" idx="2"/>
          </p:cNvCxnSpPr>
          <p:nvPr/>
        </p:nvCxnSpPr>
        <p:spPr>
          <a:xfrm flipV="1">
            <a:off x="1790280" y="4037760"/>
            <a:ext cx="1080" cy="537480"/>
          </a:xfrm>
          <a:prstGeom prst="straightConnector1">
            <a:avLst/>
          </a:prstGeom>
          <a:ln w="25560">
            <a:solidFill>
              <a:srgbClr val="ff0000"/>
            </a:solidFill>
            <a:prstDash val="dash"/>
            <a:miter/>
            <a:tailEnd len="lg" type="arrow" w="med"/>
          </a:ln>
        </p:spPr>
      </p:cxnSp>
      <p:sp>
        <p:nvSpPr>
          <p:cNvPr id="92" name="Rounded Rectangle 62"/>
          <p:cNvSpPr/>
          <p:nvPr/>
        </p:nvSpPr>
        <p:spPr>
          <a:xfrm>
            <a:off x="3524400" y="3446640"/>
            <a:ext cx="590400" cy="4968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Land use to HRU’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67"/>
          <p:cNvCxnSpPr>
            <a:stCxn id="82" idx="3"/>
            <a:endCxn id="92" idx="1"/>
          </p:cNvCxnSpPr>
          <p:nvPr/>
        </p:nvCxnSpPr>
        <p:spPr>
          <a:xfrm flipV="1">
            <a:off x="3352320" y="3695040"/>
            <a:ext cx="1724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109" name="Straight Arrow Connector 80"/>
          <p:cNvCxnSpPr>
            <a:stCxn id="110" idx="1"/>
            <a:endCxn id="80" idx="0"/>
          </p:cNvCxnSpPr>
          <p:nvPr/>
        </p:nvCxnSpPr>
        <p:spPr>
          <a:xfrm flipV="1" rot="10800000">
            <a:off x="1793160" y="1564920"/>
            <a:ext cx="940680" cy="419760"/>
          </a:xfrm>
          <a:prstGeom prst="bentConnector2">
            <a:avLst/>
          </a:prstGeom>
          <a:ln w="25560">
            <a:solidFill>
              <a:srgbClr val="ff0000"/>
            </a:solidFill>
            <a:prstDash val="dash"/>
            <a:miter/>
            <a:tailEnd len="lg" type="arrow" w="med"/>
          </a:ln>
        </p:spPr>
      </p:cxnSp>
      <p:sp>
        <p:nvSpPr>
          <p:cNvPr id="110" name="Rounded Rectangle 84"/>
          <p:cNvSpPr/>
          <p:nvPr/>
        </p:nvSpPr>
        <p:spPr>
          <a:xfrm>
            <a:off x="2733840" y="1374840"/>
            <a:ext cx="114300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Verification of assumptions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80"/>
          <p:cNvCxnSpPr>
            <a:stCxn id="83" idx="0"/>
            <a:endCxn id="110" idx="3"/>
          </p:cNvCxnSpPr>
          <p:nvPr/>
        </p:nvCxnSpPr>
        <p:spPr>
          <a:xfrm flipV="1" rot="16200000">
            <a:off x="4682880" y="758160"/>
            <a:ext cx="568800" cy="2181960"/>
          </a:xfrm>
          <a:prstGeom prst="bentConnector2">
            <a:avLst/>
          </a:prstGeom>
          <a:ln w="25560">
            <a:solidFill>
              <a:srgbClr val="ff0000"/>
            </a:solidFill>
            <a:prstDash val="dash"/>
            <a:miter/>
          </a:ln>
        </p:spPr>
      </p:cxnSp>
      <p:cxnSp>
        <p:nvCxnSpPr>
          <p:cNvPr id="112" name="Straight Arrow Connector 91"/>
          <p:cNvCxnSpPr>
            <a:stCxn id="113" idx="3"/>
            <a:endCxn id="81" idx="1"/>
          </p:cNvCxnSpPr>
          <p:nvPr/>
        </p:nvCxnSpPr>
        <p:spPr>
          <a:xfrm>
            <a:off x="985680" y="3695400"/>
            <a:ext cx="3103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113" name="Rounded Rectangle 94"/>
          <p:cNvSpPr/>
          <p:nvPr/>
        </p:nvSpPr>
        <p:spPr>
          <a:xfrm>
            <a:off x="119160" y="3314880"/>
            <a:ext cx="866520" cy="7617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MU charac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ounded Rectangle 36"/>
          <p:cNvSpPr/>
          <p:nvPr/>
        </p:nvSpPr>
        <p:spPr>
          <a:xfrm>
            <a:off x="380880" y="5176800"/>
            <a:ext cx="3276720" cy="1486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Consider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Use of N3 mapping to constrain RMU decision-ma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One “optimal” decision set per set of imposed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Feedbac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Explicit Integration Approa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419720" y="2197080"/>
            <a:ext cx="3276360" cy="312408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ystems Dynamics integrated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914400" y="2544840"/>
            <a:ext cx="762120" cy="60948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ex-verif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19000" y="4503600"/>
            <a:ext cx="952560" cy="534960"/>
          </a:xfrm>
          <a:prstGeom prst="rect">
            <a:avLst/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C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ounded Rectangle 33"/>
          <p:cNvSpPr/>
          <p:nvPr/>
        </p:nvSpPr>
        <p:spPr>
          <a:xfrm>
            <a:off x="4722840" y="6086520"/>
            <a:ext cx="76356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Sedi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Straight Arrow Connector 34"/>
          <p:cNvCxnSpPr>
            <a:stCxn id="121" idx="3"/>
          </p:cNvCxnSpPr>
          <p:nvPr/>
        </p:nvCxnSpPr>
        <p:spPr>
          <a:xfrm flipV="1">
            <a:off x="3809880" y="2848680"/>
            <a:ext cx="6199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122" name="Rounded Rectangle 40"/>
          <p:cNvSpPr/>
          <p:nvPr/>
        </p:nvSpPr>
        <p:spPr>
          <a:xfrm>
            <a:off x="6705720" y="6086520"/>
            <a:ext cx="76356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SE Impac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Indicato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1"/>
          <p:cNvCxnSpPr>
            <a:endCxn id="122" idx="0"/>
          </p:cNvCxnSpPr>
          <p:nvPr/>
        </p:nvCxnSpPr>
        <p:spPr>
          <a:xfrm>
            <a:off x="7086240" y="5321160"/>
            <a:ext cx="1080" cy="766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124" name="Rounded Rectangle 51"/>
          <p:cNvSpPr/>
          <p:nvPr/>
        </p:nvSpPr>
        <p:spPr>
          <a:xfrm>
            <a:off x="5713560" y="6095880"/>
            <a:ext cx="763560" cy="3812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Calibri"/>
              </a:rPr>
              <a:t>Flow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Straight Arrow Connector 52"/>
          <p:cNvCxnSpPr>
            <a:endCxn id="124" idx="0"/>
          </p:cNvCxnSpPr>
          <p:nvPr/>
        </p:nvCxnSpPr>
        <p:spPr>
          <a:xfrm flipH="1">
            <a:off x="6129000" y="5321160"/>
            <a:ext cx="8640" cy="77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121" name="Rounded Rectangle 35"/>
          <p:cNvSpPr/>
          <p:nvPr/>
        </p:nvSpPr>
        <p:spPr>
          <a:xfrm>
            <a:off x="2209680" y="2505240"/>
            <a:ext cx="1600200" cy="6872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Flow/sediment response module characterization (subcatchment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ounded Rectangle 36"/>
          <p:cNvSpPr/>
          <p:nvPr/>
        </p:nvSpPr>
        <p:spPr>
          <a:xfrm>
            <a:off x="2209680" y="4410000"/>
            <a:ext cx="1600200" cy="7239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Crop response / irrigation demand module characteriz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47"/>
          <p:cNvCxnSpPr>
            <a:stCxn id="126" idx="3"/>
          </p:cNvCxnSpPr>
          <p:nvPr/>
        </p:nvCxnSpPr>
        <p:spPr>
          <a:xfrm>
            <a:off x="3809880" y="4771800"/>
            <a:ext cx="6199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cxnSp>
        <p:nvCxnSpPr>
          <p:cNvPr id="128" name="Straight Arrow Connector 50"/>
          <p:cNvCxnSpPr>
            <a:endCxn id="119" idx="0"/>
          </p:cNvCxnSpPr>
          <p:nvPr/>
        </p:nvCxnSpPr>
        <p:spPr>
          <a:xfrm>
            <a:off x="5105160" y="5321160"/>
            <a:ext cx="1080" cy="766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cxnSp>
        <p:nvCxnSpPr>
          <p:cNvPr id="129" name="Straight Arrow Connector 53"/>
          <p:cNvCxnSpPr>
            <a:stCxn id="130" idx="3"/>
            <a:endCxn id="116" idx="0"/>
          </p:cNvCxnSpPr>
          <p:nvPr/>
        </p:nvCxnSpPr>
        <p:spPr>
          <a:xfrm>
            <a:off x="1931760" y="1677960"/>
            <a:ext cx="4126680" cy="519840"/>
          </a:xfrm>
          <a:prstGeom prst="bentConnector2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cxnSp>
        <p:nvCxnSpPr>
          <p:cNvPr id="131" name="Straight Arrow Connector 57"/>
          <p:cNvCxnSpPr>
            <a:stCxn id="117" idx="3"/>
            <a:endCxn id="121" idx="1"/>
          </p:cNvCxnSpPr>
          <p:nvPr/>
        </p:nvCxnSpPr>
        <p:spPr>
          <a:xfrm flipV="1">
            <a:off x="1676160" y="2848680"/>
            <a:ext cx="53388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132" name="Straight Arrow Connector 60"/>
          <p:cNvCxnSpPr>
            <a:stCxn id="118" idx="3"/>
            <a:endCxn id="126" idx="1"/>
          </p:cNvCxnSpPr>
          <p:nvPr/>
        </p:nvCxnSpPr>
        <p:spPr>
          <a:xfrm>
            <a:off x="1771200" y="4770000"/>
            <a:ext cx="438840" cy="252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429080" y="2543040"/>
            <a:ext cx="3210120" cy="259092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le 70"/>
          <p:cNvSpPr/>
          <p:nvPr/>
        </p:nvSpPr>
        <p:spPr>
          <a:xfrm>
            <a:off x="685800" y="1374840"/>
            <a:ext cx="1246320" cy="6062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3 Feasibility Map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Straight Arrow Connector 71"/>
          <p:cNvCxnSpPr>
            <a:stCxn id="130" idx="2"/>
            <a:endCxn id="117" idx="0"/>
          </p:cNvCxnSpPr>
          <p:nvPr/>
        </p:nvCxnSpPr>
        <p:spPr>
          <a:xfrm flipH="1">
            <a:off x="1294920" y="1981080"/>
            <a:ext cx="13680" cy="5644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cxnSp>
        <p:nvCxnSpPr>
          <p:cNvPr id="135" name="Straight Arrow Connector 74"/>
          <p:cNvCxnSpPr>
            <a:stCxn id="136" idx="3"/>
          </p:cNvCxnSpPr>
          <p:nvPr/>
        </p:nvCxnSpPr>
        <p:spPr>
          <a:xfrm flipV="1">
            <a:off x="1728360" y="3800160"/>
            <a:ext cx="2691720" cy="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</p:cxnSp>
      <p:sp>
        <p:nvSpPr>
          <p:cNvPr id="136" name="Rounded Rectangle 77"/>
          <p:cNvSpPr/>
          <p:nvPr/>
        </p:nvSpPr>
        <p:spPr>
          <a:xfrm>
            <a:off x="861840" y="3421080"/>
            <a:ext cx="866880" cy="7621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MU charac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23"/>
          <p:cNvSpPr/>
          <p:nvPr/>
        </p:nvSpPr>
        <p:spPr>
          <a:xfrm>
            <a:off x="380880" y="5410080"/>
            <a:ext cx="3810240" cy="12128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Consider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Feedbacks embedded; addresses fragmented link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Potential to assess many scenarios, uncertai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alibri"/>
              </a:rPr>
              <a:t>Depends upon effective mod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06:52:42Z</dcterms:created>
  <dc:creator>Ritzema, Randall (IWMI)</dc:creator>
  <dc:description/>
  <dc:language>en-US</dc:language>
  <cp:lastModifiedBy>LeBorgne, Ewen (ILRI)</cp:lastModifiedBy>
  <cp:lastPrinted>2012-10-04T06:26:27Z</cp:lastPrinted>
  <dcterms:modified xsi:type="dcterms:W3CDTF">2012-11-13T06:28:40Z</dcterms:modified>
  <cp:revision>175</cp:revision>
  <dc:subject/>
  <dc:title>PowerPoint Presentation</dc:title>
</cp:coreProperties>
</file>